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2B51-76F0-40F0-B69C-CCB412BF23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CD99-F2AF-4814-B9B6-2C0A7A619F7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D671-7EEE-478B-B0B3-ED6646E2174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83F6-F020-46DF-A9B3-20B53B4DCAF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C065-EC45-4A27-B6EE-071DB255EEE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14D2-0ACA-47D1-ADD3-AEFAA6EFFD3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7E57-99BE-498A-9882-D3C0996F6FA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6AA3-0407-4E35-8ADD-6A94D801734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4D91-1F3B-4316-8BC7-00820F39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59364-1CF0-4EE0-A8AD-1E34D55E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063A6-4070-4EA5-B791-B773296D9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C4DE1-5B48-4497-98F2-8F86FB021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3F85A-DEBD-4D5F-A0BD-B7969329D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D8CD7-91FD-4E1D-A40D-E47ECF1B1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EF7D7-BF95-42D1-A44C-69A8D8DDD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55B6D-C149-4325-B567-4E05D4489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FE330-EC62-4A7A-87D7-F06F03A76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3FCC9-5558-412E-9334-3F866EE70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FB889-B5FE-4B49-B984-3A6052D2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3655-2C7E-43D8-81BE-53A308F6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8F9DA-5E2F-4F6D-B953-2B45CA97A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A541-FB2E-4D8A-BA91-F814B5765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7DED8-5AC9-4FFD-93DF-6875D8B46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73C56-EB67-41A4-B98D-F8E731B9B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A7199-3AC8-4212-AE58-9E4FED242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35E257-0D5C-43EF-9E95-A2946900C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7D07C-18C8-4E1D-9CE2-2BE15C2DD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288CE-0FCD-470C-AAF2-6D36157DA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D9DF3-39E1-4398-A1E4-A9428BD8B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6A91D-A646-485D-AAF7-7D1C6666B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66E83-EE88-4E56-9720-A9CC7837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3385C9-61D1-425B-81EC-1FEAB6D47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4B22F-1A19-44EB-9E67-0133045D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FF91E-4F2A-47C7-A0FC-8BB1247DB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30DBB-BC8B-4544-BCF6-279C22EEB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25DE9-836A-4FB6-BE01-C665C540C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F39123-5B20-42EB-9E1C-FAE3C048F8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04B84-5735-4E65-8DC2-8ED70C28A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5EC5F-91A8-49A7-8067-6D03191CF8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168C9-044A-48A6-AA17-48D2BE4AE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D5BF3-EBA3-4E6E-8127-7F8E44BF6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49DBA-063E-49D5-94F2-6D9F2B73B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89EF3-12B9-43DA-9698-D8F67F513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36CD6-F09A-4E47-A7C6-53590797E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16FD2-391C-4EB6-B39C-B59030242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5772C-6727-4B35-BCD8-D64A61AC4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F4790-5FE0-4966-8784-8C3B300FE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67B5A-5C93-492E-AD78-94A6873C0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E0FEA-53D4-43F4-AE3C-C82FBA63B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CE9287-6C5E-4D74-A7D4-A1DAE69823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E4634-92C4-45BE-9C22-58D3B0CF77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684ECC-BB0E-4120-8270-54818DB7FC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F28D-595D-48CB-8BB9-0A0A6EF5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7D176-9D15-4D71-9BB7-229A12A15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D69EA-A3BB-4C18-A6BE-C7AE0B71C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1F55E-3032-450C-90EE-CA3A721F2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86726-1BF3-4D9A-80BC-C81412288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DE1E3-BD7F-4943-A719-DF61721B1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77B11-CD22-4B01-8797-CAECB20DE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74E62-8339-4B8E-8D0A-C094B80EB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7450E-B8F9-422E-B8E9-75C98FDDE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8DA65-6C12-45DD-B32F-9CD1CADA3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60F00A-458C-4184-9F83-D0C383F869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DFE35-E6C2-41FF-AD53-D4ABBC61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7A268-EA60-428F-857C-FC73753990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AD9AD8-92D7-4033-9CB1-BAB470E470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A3E66-117C-4B7E-90C7-F80013FB3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BFB7D-DAF4-4568-8B5A-98EE6B84E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A8D16-5C9E-4B3D-A941-E67F48CF1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7D84F-41EA-4E7C-99E7-A9A49FED9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CA9A2-2039-40FC-9A8C-FAFF3790E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1B68A-2F54-41BC-BAAA-A077B382B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0E4B6-7094-4416-B12A-3E1235040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C57F6-60CC-4127-81BA-3A3BDF2C9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D774-55BF-49C6-B338-F59B52E34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2F4B6-7EE6-4D30-A1E2-12167CDB9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1072DE-0435-48BC-BAED-A9E9FDC2E3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4C4339-B1F5-455D-8C3E-C5338DF69B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4A7C3-808D-4231-A799-F0C9BDBD0A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2BFD7-4F28-4BA1-A9D1-02C12466A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21C74-023C-474D-BED5-D76A4048C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CC97F-A5DF-4E41-B491-47F51D4733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B0F3B-AC1D-4690-9C52-B8FDE410E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F3499-ADC2-4BBF-8A4B-893AFD42C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83637-9B3F-44CB-A733-EAC0C0FFC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6611-1EA7-4D49-8D77-7F79AC881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2AFD8-F925-48B5-ABE6-F08317885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8E1BF-F4FC-4B5B-A6B6-81B29CD93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B919E-CE76-4FF9-B12D-5966780BB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661C11-05AF-40C4-9D0A-57C77FD87A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F03ECB-D755-44EC-851B-56E517BBC4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DD5F-8682-4C97-87AF-FDE0D2850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43A4-337B-408E-989D-264F968BEC8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34EB-2BDF-4C50-AB86-63844F10917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6697-0A3F-48AB-8B36-CA9CAF92238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2964-42DA-45EE-8546-3AB72A6303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AE49-CCD5-4DB1-95E0-BF9F4A8BBD8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8076-7DFC-454A-BC69-E430159BADB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3608-AFE8-49E4-A003-A1DFF3DFD73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1066320"/>
            <a:ext cx="7772400" cy="3048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Times New Roman"/>
              </a:rPr>
              <a:t> </a:t>
            </a:r>
            <a:r>
              <a:rPr b="0" lang="en-US" sz="2800" spc="-1" strike="noStrike">
                <a:solidFill>
                  <a:srgbClr val="000099"/>
                </a:solidFill>
                <a:latin typeface="Times New Roman"/>
              </a:rPr>
              <a:t>Impact Assessment of Irrigation Development in the Tana Basin on Beles Hydropower and Lake Navigation</a:t>
            </a:r>
            <a:endParaRPr b="0" lang="en-US" sz="2800" spc="-1" strike="noStrike">
              <a:solidFill>
                <a:srgbClr val="572314"/>
              </a:solidFill>
              <a:latin typeface="Gill Sans MT"/>
            </a:endParaRPr>
          </a:p>
        </p:txBody>
      </p:sp>
      <p:sp>
        <p:nvSpPr>
          <p:cNvPr id="326" name="PlaceHolder 2"/>
          <p:cNvSpPr>
            <a:spLocks noGrp="1"/>
          </p:cNvSpPr>
          <p:nvPr>
            <p:ph type="subTitle"/>
          </p:nvPr>
        </p:nvSpPr>
        <p:spPr>
          <a:xfrm>
            <a:off x="1980720" y="5028840"/>
            <a:ext cx="6248520" cy="1219320"/>
          </a:xfrm>
          <a:prstGeom prst="rect">
            <a:avLst/>
          </a:prstGeom>
          <a:noFill/>
          <a:ln w="0">
            <a:noFill/>
          </a:ln>
        </p:spPr>
        <p:txBody>
          <a:bodyPr lIns="90000" rIns="90000" tIns="0" bIns="46800" anchor="t">
            <a:noAutofit/>
          </a:bodyPr>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0e04"/>
                </a:solidFill>
                <a:latin typeface="Gill Sans MT"/>
              </a:rPr>
              <a:t>Deksyos Tarekegn</a:t>
            </a:r>
            <a:endParaRPr b="0" lang="en-US" sz="1400" spc="-1" strike="noStrike">
              <a:solidFill>
                <a:srgbClr val="000000"/>
              </a:solidFill>
              <a:latin typeface="Gill Sans MT"/>
            </a:endParaRPr>
          </a:p>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0e04"/>
                </a:solidFill>
                <a:latin typeface="Gill Sans MT"/>
              </a:rPr>
              <a:t>National DSS Specialist - Ethiopia</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Model setup</a:t>
            </a:r>
            <a:endParaRPr b="0" lang="en-US" sz="2800" spc="-1" strike="noStrike">
              <a:solidFill>
                <a:srgbClr val="572314"/>
              </a:solidFill>
              <a:latin typeface="Gill Sans MT"/>
            </a:endParaRPr>
          </a:p>
        </p:txBody>
      </p:sp>
      <p:sp>
        <p:nvSpPr>
          <p:cNvPr id="362" name="Rectangle 5"/>
          <p:cNvSpPr/>
          <p:nvPr/>
        </p:nvSpPr>
        <p:spPr>
          <a:xfrm>
            <a:off x="5410080" y="1676520"/>
            <a:ext cx="358164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na basin is divided into 16 sub-catchments, including6 dams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les basin is divided into 4 catchments, including 3 dam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0 m DEM is used to delinete the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mulation Period: 1960-2005</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63" name="Picture 4" descr="C:\Tana-Beles_DSS-usecase\Report\Tana-Beles Model setup.png"/>
          <p:cNvPicPr/>
          <p:nvPr/>
        </p:nvPicPr>
        <p:blipFill>
          <a:blip r:embed="rId1"/>
          <a:stretch/>
        </p:blipFill>
        <p:spPr>
          <a:xfrm>
            <a:off x="152280" y="1371600"/>
            <a:ext cx="5257800" cy="3200400"/>
          </a:xfrm>
          <a:prstGeom prst="rect">
            <a:avLst/>
          </a:prstGeom>
          <a:ln cap="sq"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Model Calibration</a:t>
            </a:r>
            <a:endParaRPr b="0" lang="en-US" sz="2800" spc="-1" strike="noStrike">
              <a:solidFill>
                <a:srgbClr val="572314"/>
              </a:solidFill>
              <a:latin typeface="Gill Sans MT"/>
            </a:endParaRPr>
          </a:p>
        </p:txBody>
      </p:sp>
      <p:sp>
        <p:nvSpPr>
          <p:cNvPr id="365" name="Rectangle 4"/>
          <p:cNvSpPr/>
          <p:nvPr/>
        </p:nvSpPr>
        <p:spPr>
          <a:xfrm>
            <a:off x="762120" y="1295280"/>
            <a:ext cx="80517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Model in MB is calibrated to match the observed and simulated levels</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calibration is on the loss and Gains of the lake; these are the most uncertain inputs since their variation on the lake is very high</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order to avoid spills from the Chara-Chara weir during calibration, the flood control level is set very high.</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he measured flow at the outlet of the lake includes total flow ( spill + release) </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existing developments considered are Chara-Chara weir, Tis-Isat power plants.</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xy reservoir is added downstream of Chara-Chara to divert water to Tis Issat HP and to Tis-Isat falls </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verage flow to Tis-Issat falls is set to 17 m3/s ( a minimum of 10 in dry months and higher in wet months)</a:t>
            </a:r>
            <a:endParaRPr b="0" lang="en-US" sz="2000" spc="-1" strike="noStrike">
              <a:solidFill>
                <a:srgbClr val="000000"/>
              </a:solidFill>
              <a:latin typeface="Gill Sans MT"/>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
          <p:cNvPicPr/>
          <p:nvPr/>
        </p:nvPicPr>
        <p:blipFill>
          <a:blip r:embed="rId1"/>
          <a:stretch/>
        </p:blipFill>
        <p:spPr>
          <a:xfrm>
            <a:off x="609480" y="0"/>
            <a:ext cx="7915320" cy="5808600"/>
          </a:xfrm>
          <a:prstGeom prst="rect">
            <a:avLst/>
          </a:prstGeom>
          <a:ln w="0">
            <a:noFill/>
          </a:ln>
        </p:spPr>
      </p:pic>
      <p:graphicFrame>
        <p:nvGraphicFramePr>
          <p:cNvPr id="367" name=""/>
          <p:cNvGraphicFramePr/>
          <p:nvPr/>
        </p:nvGraphicFramePr>
        <p:xfrm>
          <a:off x="4952880" y="4876920"/>
          <a:ext cx="3657600" cy="1796760"/>
        </p:xfrm>
        <a:graphic>
          <a:graphicData uri="http://schemas.openxmlformats.org/drawingml/2006/table">
            <a:tbl>
              <a:tblPr/>
              <a:tblGrid>
                <a:gridCol w="855720"/>
                <a:gridCol w="784440"/>
                <a:gridCol w="814320"/>
                <a:gridCol w="120312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Name</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Maximum</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Minimum</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ime weighted average</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ed Level</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7.72</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4.36</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6.100</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r h="54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imulated Level</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7.77</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4.37</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6.101</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bl>
          </a:graphicData>
        </a:graphic>
      </p:graphicFrame>
      <p:sp>
        <p:nvSpPr>
          <p:cNvPr id="368" name="Text Box 40"/>
          <p:cNvSpPr/>
          <p:nvPr/>
        </p:nvSpPr>
        <p:spPr>
          <a:xfrm>
            <a:off x="2587680" y="36360"/>
            <a:ext cx="414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l Calibration-Lake Level</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hart 2" descr=""/>
          <p:cNvPicPr/>
          <p:nvPr/>
        </p:nvPicPr>
        <p:blipFill>
          <a:blip r:embed="rId1"/>
          <a:stretch/>
        </p:blipFill>
        <p:spPr>
          <a:xfrm>
            <a:off x="1596960" y="1596960"/>
            <a:ext cx="5297400" cy="3213000"/>
          </a:xfrm>
          <a:prstGeom prst="rect">
            <a:avLst/>
          </a:prstGeom>
          <a:ln w="0">
            <a:noFill/>
          </a:ln>
        </p:spPr>
      </p:pic>
      <p:sp>
        <p:nvSpPr>
          <p:cNvPr id="370" name="Rectangle 3"/>
          <p:cNvSpPr/>
          <p:nvPr/>
        </p:nvSpPr>
        <p:spPr>
          <a:xfrm>
            <a:off x="2057400" y="5105520"/>
            <a:ext cx="6019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ill Sans MT"/>
              </a:rPr>
              <a:t>Scattered Diagram of Observed and Simulated Lake Level</a:t>
            </a:r>
            <a:endParaRPr b="0" lang="en-US" sz="1600" spc="-1" strike="noStrike">
              <a:solidFill>
                <a:srgbClr val="000000"/>
              </a:solidFill>
              <a:latin typeface="Gill Sans MT"/>
            </a:endParaRPr>
          </a:p>
        </p:txBody>
      </p:sp>
      <p:sp>
        <p:nvSpPr>
          <p:cNvPr id="371" name="PlaceHolder 1"/>
          <p:cNvSpPr>
            <a:spLocks noGrp="1"/>
          </p:cNvSpPr>
          <p:nvPr>
            <p:ph type="title"/>
          </p:nvPr>
        </p:nvSpPr>
        <p:spPr>
          <a:xfrm>
            <a:off x="457200" y="274320"/>
            <a:ext cx="8229600" cy="523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Arial"/>
                <a:ea typeface="Arial"/>
              </a:rPr>
              <a:t>Model Calibration-Lake Level</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274680"/>
            <a:ext cx="8153280" cy="41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Times New Roman"/>
              </a:rPr>
              <a:t>Result: Impacts on Lake Navigation</a:t>
            </a:r>
            <a:endParaRPr b="0" lang="en-US" sz="2500" spc="-1" strike="noStrike">
              <a:solidFill>
                <a:srgbClr val="572314"/>
              </a:solidFill>
              <a:latin typeface="Gill Sans MT"/>
            </a:endParaRPr>
          </a:p>
        </p:txBody>
      </p:sp>
      <p:pic>
        <p:nvPicPr>
          <p:cNvPr id="373" name="Picture 3" descr=""/>
          <p:cNvPicPr/>
          <p:nvPr/>
        </p:nvPicPr>
        <p:blipFill>
          <a:blip r:embed="rId1"/>
          <a:stretch/>
        </p:blipFill>
        <p:spPr>
          <a:xfrm>
            <a:off x="1219320" y="838080"/>
            <a:ext cx="5886360" cy="3510000"/>
          </a:xfrm>
          <a:prstGeom prst="rect">
            <a:avLst/>
          </a:prstGeom>
          <a:ln w="0">
            <a:noFill/>
          </a:ln>
        </p:spPr>
      </p:pic>
      <p:graphicFrame>
        <p:nvGraphicFramePr>
          <p:cNvPr id="374" name=""/>
          <p:cNvGraphicFramePr/>
          <p:nvPr/>
        </p:nvGraphicFramePr>
        <p:xfrm>
          <a:off x="2819520" y="4419720"/>
          <a:ext cx="4647960" cy="2057400"/>
        </p:xfrm>
        <a:graphic>
          <a:graphicData uri="http://schemas.openxmlformats.org/drawingml/2006/table">
            <a:tbl>
              <a:tblPr/>
              <a:tblGrid>
                <a:gridCol w="1536480"/>
                <a:gridCol w="1044720"/>
                <a:gridCol w="1042920"/>
                <a:gridCol w="1023840"/>
              </a:tblGrid>
              <a:tr h="306360">
                <a:tc rowSpan="2">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Lake Level, masl</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5238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aximum </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inimum </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edian</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87</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9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1</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76</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73</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2</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57</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41</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3</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46</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4.99</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74"/>
          <p:cNvSpPr/>
          <p:nvPr/>
        </p:nvSpPr>
        <p:spPr>
          <a:xfrm>
            <a:off x="1523880" y="990720"/>
            <a:ext cx="64008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operating level of Chara-Chara weir is 1784 masl</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Tana transport enterprise insist that the minimum Lake level for Navigation is 1784.75 masl</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present study the MOL is set to 1784, there is plan to try different MOLs and reduction levels and fractions.</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full development the minimum lake level drops by 41 cm from the baseline scenario</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baseline scenario, the lake level drop below 1784.75 for about 5% of the simulation period. Whereas, in full development it drops for about 40% of the time.</a:t>
            </a:r>
            <a:endParaRPr b="0" lang="en-US" sz="1800" spc="-1" strike="noStrike">
              <a:solidFill>
                <a:srgbClr val="000000"/>
              </a:solidFill>
              <a:latin typeface="Gill Sans MT"/>
            </a:endParaRPr>
          </a:p>
        </p:txBody>
      </p:sp>
      <p:pic>
        <p:nvPicPr>
          <p:cNvPr id="376" name="Picture 5" descr=""/>
          <p:cNvPicPr/>
          <p:nvPr/>
        </p:nvPicPr>
        <p:blipFill>
          <a:blip r:embed="rId1"/>
          <a:stretch/>
        </p:blipFill>
        <p:spPr>
          <a:xfrm>
            <a:off x="2514600" y="4343400"/>
            <a:ext cx="4724280" cy="2209680"/>
          </a:xfrm>
          <a:prstGeom prst="rect">
            <a:avLst/>
          </a:prstGeom>
          <a:ln w="9360">
            <a:solidFill>
              <a:srgbClr val="000000"/>
            </a:solidFill>
            <a:miter/>
          </a:ln>
        </p:spPr>
      </p:pic>
      <p:sp>
        <p:nvSpPr>
          <p:cNvPr id="3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Result: Impacts on Lake Navigation</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hart 2" descr=""/>
          <p:cNvPicPr/>
          <p:nvPr/>
        </p:nvPicPr>
        <p:blipFill>
          <a:blip r:embed="rId1"/>
          <a:stretch/>
        </p:blipFill>
        <p:spPr>
          <a:xfrm>
            <a:off x="1596960" y="3425760"/>
            <a:ext cx="5797440" cy="3206880"/>
          </a:xfrm>
          <a:prstGeom prst="rect">
            <a:avLst/>
          </a:prstGeom>
          <a:ln w="0">
            <a:noFill/>
          </a:ln>
        </p:spPr>
      </p:pic>
      <p:graphicFrame>
        <p:nvGraphicFramePr>
          <p:cNvPr id="379" name=""/>
          <p:cNvGraphicFramePr/>
          <p:nvPr/>
        </p:nvGraphicFramePr>
        <p:xfrm>
          <a:off x="2514600" y="1143000"/>
          <a:ext cx="4343400" cy="2201760"/>
        </p:xfrm>
        <a:graphic>
          <a:graphicData uri="http://schemas.openxmlformats.org/drawingml/2006/table">
            <a:tbl>
              <a:tblPr/>
              <a:tblGrid>
                <a:gridCol w="1665360"/>
                <a:gridCol w="684000"/>
                <a:gridCol w="897120"/>
                <a:gridCol w="1096920"/>
              </a:tblGrid>
              <a:tr h="65880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Unit</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Maximum valu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 weighted average valu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aselin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6.8</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enario 1</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8.9</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Scenario 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5.7</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Scenario 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1.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Times New Roman"/>
              </a:rPr>
              <a:t> </a:t>
            </a:r>
            <a:r>
              <a:rPr b="0" lang="en-US" sz="2800" spc="-1" strike="noStrike">
                <a:solidFill>
                  <a:srgbClr val="4f271c"/>
                </a:solidFill>
                <a:latin typeface="Times New Roman"/>
              </a:rPr>
              <a:t>Result: Impacts on Beles HP generation</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914400" y="152280"/>
            <a:ext cx="70610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Times New Roman"/>
              </a:rPr>
              <a:t> </a:t>
            </a:r>
            <a:r>
              <a:rPr b="0" lang="en-US" sz="2800" spc="-1" strike="noStrike">
                <a:solidFill>
                  <a:srgbClr val="4f271c"/>
                </a:solidFill>
                <a:latin typeface="Times New Roman"/>
              </a:rPr>
              <a:t>Result: Impacts on Beles HP generation</a:t>
            </a:r>
            <a:endParaRPr b="0" lang="en-US" sz="2800" spc="-1" strike="noStrike">
              <a:solidFill>
                <a:srgbClr val="000000"/>
              </a:solidFill>
              <a:latin typeface="Gill Sans MT"/>
            </a:endParaRPr>
          </a:p>
        </p:txBody>
      </p:sp>
      <p:pic>
        <p:nvPicPr>
          <p:cNvPr id="382" name="Picture 3" descr=""/>
          <p:cNvPicPr/>
          <p:nvPr/>
        </p:nvPicPr>
        <p:blipFill>
          <a:blip r:embed="rId1"/>
          <a:stretch/>
        </p:blipFill>
        <p:spPr>
          <a:xfrm>
            <a:off x="1981080" y="762120"/>
            <a:ext cx="5943600" cy="3047760"/>
          </a:xfrm>
          <a:prstGeom prst="rect">
            <a:avLst/>
          </a:prstGeom>
          <a:ln w="0">
            <a:noFill/>
          </a:ln>
        </p:spPr>
      </p:pic>
      <p:sp>
        <p:nvSpPr>
          <p:cNvPr id="383" name="TextBox 4"/>
          <p:cNvSpPr/>
          <p:nvPr/>
        </p:nvSpPr>
        <p:spPr>
          <a:xfrm>
            <a:off x="2057400" y="4419720"/>
            <a:ext cx="586728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 Scenario 1 the average Beles HP generation reduced by 8 MW only</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 Scenario 2 and 3, the generation decrease by 21 and 46 MW</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sult: change in Beles outflow to Blue Nile</a:t>
            </a:r>
            <a:endParaRPr b="0" lang="en-US" sz="2800" spc="-1" strike="noStrike">
              <a:solidFill>
                <a:srgbClr val="572314"/>
              </a:solidFill>
              <a:latin typeface="Gill Sans MT"/>
            </a:endParaRPr>
          </a:p>
        </p:txBody>
      </p:sp>
      <p:pic>
        <p:nvPicPr>
          <p:cNvPr id="385" name="Chart 2" descr=""/>
          <p:cNvPicPr/>
          <p:nvPr/>
        </p:nvPicPr>
        <p:blipFill>
          <a:blip r:embed="rId1"/>
          <a:stretch/>
        </p:blipFill>
        <p:spPr>
          <a:xfrm>
            <a:off x="1981080" y="1066680"/>
            <a:ext cx="5639040" cy="2743200"/>
          </a:xfrm>
          <a:prstGeom prst="rect">
            <a:avLst/>
          </a:prstGeom>
          <a:ln w="0">
            <a:noFill/>
          </a:ln>
        </p:spPr>
      </p:pic>
      <p:sp>
        <p:nvSpPr>
          <p:cNvPr id="386" name="Rectangle 1"/>
          <p:cNvSpPr/>
          <p:nvPr/>
        </p:nvSpPr>
        <p:spPr>
          <a:xfrm>
            <a:off x="1981080" y="3886560"/>
            <a:ext cx="510552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Calibri"/>
              </a:rPr>
              <a:t>Mean Annual Flow of Beles River at the Confluence with Blue Nile.</a:t>
            </a:r>
            <a:endParaRPr b="0" lang="en-US" sz="1100" spc="-1" strike="noStrike">
              <a:solidFill>
                <a:srgbClr val="000000"/>
              </a:solidFill>
              <a:latin typeface="Gill Sans MT"/>
            </a:endParaRPr>
          </a:p>
        </p:txBody>
      </p:sp>
      <p:sp>
        <p:nvSpPr>
          <p:cNvPr id="387" name="TextBox 4"/>
          <p:cNvSpPr/>
          <p:nvPr/>
        </p:nvSpPr>
        <p:spPr>
          <a:xfrm>
            <a:off x="1600200" y="457200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Beles river flow at the Blue Nile confluence is reduced from the baseline  MAF of 7723mcm to 5903mcm at full development (scenario 3) i.e, the flow reduce by 1819mcm or 18.2%.</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ummary of Results</a:t>
            </a:r>
            <a:endParaRPr b="0" lang="en-US" sz="2800" spc="-1" strike="noStrike">
              <a:solidFill>
                <a:srgbClr val="572314"/>
              </a:solidFill>
              <a:latin typeface="Gill Sans MT"/>
            </a:endParaRPr>
          </a:p>
        </p:txBody>
      </p:sp>
      <p:graphicFrame>
        <p:nvGraphicFramePr>
          <p:cNvPr id="389" name=""/>
          <p:cNvGraphicFramePr/>
          <p:nvPr/>
        </p:nvGraphicFramePr>
        <p:xfrm>
          <a:off x="1066680" y="1066680"/>
          <a:ext cx="7620120" cy="5092920"/>
        </p:xfrm>
        <a:graphic>
          <a:graphicData uri="http://schemas.openxmlformats.org/drawingml/2006/table">
            <a:tbl>
              <a:tblPr/>
              <a:tblGrid>
                <a:gridCol w="1590840"/>
                <a:gridCol w="1103400"/>
                <a:gridCol w="1231920"/>
                <a:gridCol w="1231920"/>
                <a:gridCol w="1230120"/>
                <a:gridCol w="1231920"/>
              </a:tblGrid>
              <a:tr h="52704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Indicators</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Baseline</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1</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6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les average generated Power (mega wat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6.8</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8.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5.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1.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303120">
                <a:tc rowSpan="3">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na Water</a:t>
                      </a:r>
                      <a:endParaRPr b="0" lang="en-US" sz="14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vel (masl)</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inimu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7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5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4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144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ximu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324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edian</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7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41</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4.9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9064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ntage of Time Lake level drops below 1784.75(minimum level for safe navigation)</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9.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9064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ntage of Time Lake level drops below 1784 (minimum operating level for HP)</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5</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8</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32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liability of Gonder town water supply (%)</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144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utflow to , (mc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72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15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6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90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6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liability of Upper Beles Irrigation water supply</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9.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6.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1.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Background</a:t>
            </a:r>
            <a:endParaRPr b="0" lang="en-US" sz="3200" spc="-1" strike="noStrike">
              <a:solidFill>
                <a:srgbClr val="572314"/>
              </a:solidFill>
              <a:latin typeface="Gill Sans MT"/>
            </a:endParaRPr>
          </a:p>
        </p:txBody>
      </p:sp>
      <p:sp>
        <p:nvSpPr>
          <p:cNvPr id="328" name="Rectangle 12"/>
          <p:cNvSpPr/>
          <p:nvPr/>
        </p:nvSpPr>
        <p:spPr>
          <a:xfrm>
            <a:off x="5029200" y="1523880"/>
            <a:ext cx="3886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ana &amp; Beles sub-basins are located in the Blue Nile Basin.</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5,083sqkm including Lake area of 3000sqk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ross storage 32 BCM; Live 8.5BC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urce of Blue Nile</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3,573 sqk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last tributaries of Blue Nile in Ethiopia</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levation ranges from 4100 – 500masl</a:t>
            </a:r>
            <a:endParaRPr b="0" lang="en-US" sz="1800" spc="-1" strike="noStrike">
              <a:solidFill>
                <a:srgbClr val="000000"/>
              </a:solidFill>
              <a:latin typeface="Gill Sans MT"/>
            </a:endParaRPr>
          </a:p>
        </p:txBody>
      </p:sp>
      <p:pic>
        <p:nvPicPr>
          <p:cNvPr id="329" name="Picture 2" descr=""/>
          <p:cNvPicPr/>
          <p:nvPr/>
        </p:nvPicPr>
        <p:blipFill>
          <a:blip r:embed="rId1"/>
          <a:stretch/>
        </p:blipFill>
        <p:spPr>
          <a:xfrm>
            <a:off x="339840" y="1371600"/>
            <a:ext cx="47656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Times New Roman"/>
              </a:rPr>
              <a:t>Conclusion</a:t>
            </a:r>
            <a:endParaRPr b="0" lang="en-US" sz="3200" spc="-1" strike="noStrike">
              <a:solidFill>
                <a:srgbClr val="572314"/>
              </a:solidFill>
              <a:latin typeface="Gill Sans MT"/>
            </a:endParaRPr>
          </a:p>
        </p:txBody>
      </p:sp>
      <p:sp>
        <p:nvSpPr>
          <p:cNvPr id="391" name="PlaceHolder 2"/>
          <p:cNvSpPr>
            <a:spLocks noGrp="1"/>
          </p:cNvSpPr>
          <p:nvPr>
            <p:ph/>
          </p:nvPr>
        </p:nvSpPr>
        <p:spPr>
          <a:xfrm>
            <a:off x="1066320" y="1371240"/>
            <a:ext cx="7162920" cy="4754520"/>
          </a:xfrm>
          <a:prstGeom prst="rect">
            <a:avLst/>
          </a:prstGeom>
          <a:noFill/>
          <a:ln w="0">
            <a:noFill/>
          </a:ln>
        </p:spPr>
        <p:txBody>
          <a:bodyPr lIns="90000" rIns="90000" tIns="46800" bIns="46800"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medium scale irrigation development in the Tana Basin, SC-1, (33000ha) the lake level in almost all the time remain above 1784 masl.</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large scale development scenario, SC-2 (69350 ha. In L. Tana basin), the Lake level drops below the designed minimum operation level of 1784, for about 4% of the time. But in full scale development the level drops for about 10% of the simulation period.</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impact on the Beles Hydropower generation is insignificant in the medium scale developments, SC-1. The average power generation is reduced by 8 MW. </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medium and full scale development scenarios, SC-2 &amp; SC-3, there is significant impact on the Beles hydropower generation; the average annual power generation drops to 216 and 191 mw respectively from the current 237 mw.</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optimum lake level require to navigate Lake Tana is 1784.75. However, even in the baseline scenario, the lake level drops below this level for about 5 % of the time. In medium, large and full scale developments, the level drops below 1784.75 for about 12%, 23% and 40% of the time respectively. Hence, at full scale development impact on L.Tana navigation is significant with the current navigation facilitie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2774880" y="2514600"/>
            <a:ext cx="39434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70c0"/>
                </a:solidFill>
                <a:latin typeface="comic"/>
              </a:rPr>
              <a:t>Thank You</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6854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Background</a:t>
            </a:r>
            <a:endParaRPr b="0" lang="en-US" sz="3200" spc="-1" strike="noStrike">
              <a:solidFill>
                <a:srgbClr val="572314"/>
              </a:solidFill>
              <a:latin typeface="Gill Sans MT"/>
            </a:endParaRPr>
          </a:p>
        </p:txBody>
      </p:sp>
      <p:pic>
        <p:nvPicPr>
          <p:cNvPr id="331" name="Picture 6" descr=""/>
          <p:cNvPicPr/>
          <p:nvPr/>
        </p:nvPicPr>
        <p:blipFill>
          <a:blip r:embed="rId1"/>
          <a:stretch/>
        </p:blipFill>
        <p:spPr>
          <a:xfrm>
            <a:off x="449280" y="1523880"/>
            <a:ext cx="5030640" cy="3881520"/>
          </a:xfrm>
          <a:prstGeom prst="rect">
            <a:avLst/>
          </a:prstGeom>
          <a:ln w="0">
            <a:noFill/>
          </a:ln>
        </p:spPr>
      </p:pic>
      <p:sp>
        <p:nvSpPr>
          <p:cNvPr id="332" name=""/>
          <p:cNvSpPr txBox="1"/>
          <p:nvPr/>
        </p:nvSpPr>
        <p:spPr>
          <a:xfrm>
            <a:off x="5372280" y="1600200"/>
            <a:ext cx="3543120" cy="4525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basin Gauged Area 42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only 29 % is gauged</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F</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outflow 3753MCM</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MAF: 4900MCM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2010 the two S-basins are connected through 12 km tunnel to transfer water to from L. Tana to generate HP (460MW</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isting Developments</a:t>
            </a:r>
            <a:endParaRPr b="0" lang="en-US" sz="3200" spc="-1" strike="noStrike">
              <a:solidFill>
                <a:srgbClr val="572314"/>
              </a:solidFill>
              <a:latin typeface="Gill Sans MT"/>
            </a:endParaRPr>
          </a:p>
        </p:txBody>
      </p:sp>
      <p:pic>
        <p:nvPicPr>
          <p:cNvPr id="334" name="Picture 6" descr=""/>
          <p:cNvPicPr/>
          <p:nvPr/>
        </p:nvPicPr>
        <p:blipFill>
          <a:blip r:embed="rId1"/>
          <a:stretch/>
        </p:blipFill>
        <p:spPr>
          <a:xfrm>
            <a:off x="228600" y="1066680"/>
            <a:ext cx="4575240" cy="3532320"/>
          </a:xfrm>
          <a:prstGeom prst="rect">
            <a:avLst/>
          </a:prstGeom>
          <a:ln w="0">
            <a:noFill/>
          </a:ln>
        </p:spPr>
      </p:pic>
      <p:sp>
        <p:nvSpPr>
          <p:cNvPr id="335" name="Text Box 8"/>
          <p:cNvSpPr/>
          <p:nvPr/>
        </p:nvSpPr>
        <p:spPr>
          <a:xfrm>
            <a:off x="1523880" y="2057400"/>
            <a:ext cx="1143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na-Beles Transfer Tunnel</a:t>
            </a:r>
            <a:endParaRPr b="0" lang="en-US" sz="1000" spc="-1" strike="noStrike">
              <a:solidFill>
                <a:srgbClr val="000000"/>
              </a:solidFill>
              <a:latin typeface="Gill Sans MT"/>
            </a:endParaRPr>
          </a:p>
        </p:txBody>
      </p:sp>
      <p:sp>
        <p:nvSpPr>
          <p:cNvPr id="336" name="Line 9"/>
          <p:cNvSpPr/>
          <p:nvPr/>
        </p:nvSpPr>
        <p:spPr>
          <a:xfrm>
            <a:off x="2666880" y="2362320"/>
            <a:ext cx="228600" cy="228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7" name="Line 10"/>
          <p:cNvSpPr/>
          <p:nvPr/>
        </p:nvSpPr>
        <p:spPr>
          <a:xfrm flipH="1">
            <a:off x="2819160" y="2514600"/>
            <a:ext cx="152280" cy="114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8" name="Line 11"/>
          <p:cNvSpPr/>
          <p:nvPr/>
        </p:nvSpPr>
        <p:spPr>
          <a:xfrm>
            <a:off x="3352680" y="2971800"/>
            <a:ext cx="152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9" name="Text Box 12"/>
          <p:cNvSpPr/>
          <p:nvPr/>
        </p:nvSpPr>
        <p:spPr>
          <a:xfrm>
            <a:off x="3276720" y="3352680"/>
            <a:ext cx="1218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ra-Chara Weir</a:t>
            </a:r>
            <a:endParaRPr b="0" lang="en-US" sz="1000" spc="-1" strike="noStrike">
              <a:solidFill>
                <a:srgbClr val="000000"/>
              </a:solidFill>
              <a:latin typeface="Gill Sans MT"/>
            </a:endParaRPr>
          </a:p>
        </p:txBody>
      </p:sp>
      <p:sp>
        <p:nvSpPr>
          <p:cNvPr id="340" name="Line 13"/>
          <p:cNvSpPr/>
          <p:nvPr/>
        </p:nvSpPr>
        <p:spPr>
          <a:xfrm>
            <a:off x="3429000" y="2971800"/>
            <a:ext cx="152280" cy="343080"/>
          </a:xfrm>
          <a:prstGeom prst="line">
            <a:avLst/>
          </a:prstGeom>
          <a:ln w="1908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41" name="AutoShape 15"/>
          <p:cNvSpPr/>
          <p:nvPr/>
        </p:nvSpPr>
        <p:spPr>
          <a:xfrm>
            <a:off x="2895480" y="3200400"/>
            <a:ext cx="152640" cy="1173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342" name="Text Box 16"/>
          <p:cNvSpPr/>
          <p:nvPr/>
        </p:nvSpPr>
        <p:spPr>
          <a:xfrm>
            <a:off x="2743200" y="3809880"/>
            <a:ext cx="838080" cy="2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ga Dam</a:t>
            </a:r>
            <a:endParaRPr b="0" lang="en-US" sz="1000" spc="-1" strike="noStrike">
              <a:solidFill>
                <a:srgbClr val="000000"/>
              </a:solidFill>
              <a:latin typeface="Gill Sans MT"/>
            </a:endParaRPr>
          </a:p>
        </p:txBody>
      </p:sp>
      <p:sp>
        <p:nvSpPr>
          <p:cNvPr id="343" name="Line 17"/>
          <p:cNvSpPr/>
          <p:nvPr/>
        </p:nvSpPr>
        <p:spPr>
          <a:xfrm>
            <a:off x="2971800" y="3276720"/>
            <a:ext cx="76320" cy="533160"/>
          </a:xfrm>
          <a:prstGeom prst="line">
            <a:avLst/>
          </a:prstGeom>
          <a:ln w="1908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aphicFrame>
        <p:nvGraphicFramePr>
          <p:cNvPr id="344" name=""/>
          <p:cNvGraphicFramePr/>
          <p:nvPr/>
        </p:nvGraphicFramePr>
        <p:xfrm>
          <a:off x="4800600" y="1143000"/>
          <a:ext cx="4191120" cy="4695840"/>
        </p:xfrm>
        <a:graphic>
          <a:graphicData uri="http://schemas.openxmlformats.org/drawingml/2006/table">
            <a:tbl>
              <a:tblPr/>
              <a:tblGrid>
                <a:gridCol w="1127160"/>
                <a:gridCol w="868320"/>
                <a:gridCol w="615960"/>
                <a:gridCol w="792000"/>
                <a:gridCol w="787680"/>
              </a:tblGrid>
              <a:tr h="1082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Storage Capacity, mcm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Irrigated area, ha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HP Installed Capacity, mw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Remark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ana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hara-Chara weir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32,000 (Lake Tan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the outlet of the Lake Tan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Koga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70.5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000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is-Abbay I and II Hydropower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4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urrently, these plants are operated as standby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Beles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Beles Hydropower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6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otal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7,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46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r>
            </a:tbl>
          </a:graphicData>
        </a:graphic>
      </p:graphicFrame>
      <p:sp>
        <p:nvSpPr>
          <p:cNvPr id="345" name="TextBox 14"/>
          <p:cNvSpPr/>
          <p:nvPr/>
        </p:nvSpPr>
        <p:spPr>
          <a:xfrm>
            <a:off x="380880" y="4648320"/>
            <a:ext cx="4114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avigation: Lake Tana is used for Navigation, a basic transport to the residents of islands and lake peripheries.</a:t>
            </a:r>
            <a:endParaRPr b="0" lang="en-US" sz="16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shery: L. Tana has huge Fish potential</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Development Potential</a:t>
            </a:r>
            <a:endParaRPr b="0" lang="en-US" sz="2800" spc="-1" strike="noStrike">
              <a:solidFill>
                <a:srgbClr val="572314"/>
              </a:solidFill>
              <a:latin typeface="Gill Sans MT"/>
            </a:endParaRPr>
          </a:p>
        </p:txBody>
      </p:sp>
      <p:pic>
        <p:nvPicPr>
          <p:cNvPr id="347" name="Picture 5" descr=""/>
          <p:cNvPicPr/>
          <p:nvPr/>
        </p:nvPicPr>
        <p:blipFill>
          <a:blip r:embed="rId1"/>
          <a:stretch/>
        </p:blipFill>
        <p:spPr>
          <a:xfrm>
            <a:off x="152280" y="1523880"/>
            <a:ext cx="4173480" cy="3403800"/>
          </a:xfrm>
          <a:prstGeom prst="rect">
            <a:avLst/>
          </a:prstGeom>
          <a:ln w="0">
            <a:noFill/>
          </a:ln>
        </p:spPr>
      </p:pic>
      <p:graphicFrame>
        <p:nvGraphicFramePr>
          <p:cNvPr id="348" name=""/>
          <p:cNvGraphicFramePr/>
          <p:nvPr/>
        </p:nvGraphicFramePr>
        <p:xfrm>
          <a:off x="4343400" y="1066680"/>
          <a:ext cx="4419720" cy="5683320"/>
        </p:xfrm>
        <a:graphic>
          <a:graphicData uri="http://schemas.openxmlformats.org/drawingml/2006/table">
            <a:tbl>
              <a:tblPr/>
              <a:tblGrid>
                <a:gridCol w="1447920"/>
                <a:gridCol w="795240"/>
                <a:gridCol w="728640"/>
                <a:gridCol w="457200"/>
                <a:gridCol w="990720"/>
              </a:tblGrid>
              <a:tr h="68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Storage mcm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Irrigable area, h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HP, mw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Remark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ana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egetch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81.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311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Ribb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33.7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8,7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ilgel Abbay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365.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552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Jema dam &amp;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4.1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786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umara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23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Lake Tana pumping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4,650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onder Town water supply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umping from Megetch dam,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Beles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pper Beles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angur Hydropower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ower Beles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5,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otal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246,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16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TextBox 5"/>
          <p:cNvSpPr/>
          <p:nvPr/>
        </p:nvSpPr>
        <p:spPr>
          <a:xfrm>
            <a:off x="685800" y="53341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114,000 h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139,000 h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Questions</a:t>
            </a:r>
            <a:endParaRPr b="0" lang="en-US" sz="3200" spc="-1" strike="noStrike">
              <a:solidFill>
                <a:srgbClr val="572314"/>
              </a:solidFill>
              <a:latin typeface="Gill Sans MT"/>
            </a:endParaRPr>
          </a:p>
        </p:txBody>
      </p:sp>
      <p:sp>
        <p:nvSpPr>
          <p:cNvPr id="351" name="Rectangle 6"/>
          <p:cNvSpPr/>
          <p:nvPr/>
        </p:nvSpPr>
        <p:spPr>
          <a:xfrm>
            <a:off x="990720" y="1676520"/>
            <a:ext cx="769608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at will be the impact of irrigation development in the Tana basin on the Beles Hydropower generation?</a:t>
            </a:r>
            <a:endParaRPr b="0" lang="en-US" sz="1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By how much the Lake level will be reduced, and what would be the impacts on the navigational use of Lake Tana?</a:t>
            </a:r>
            <a:endParaRPr b="0" lang="en-US" sz="1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at will be the change in Beles flow to Blue Nile?</a:t>
            </a:r>
            <a:endParaRPr b="0" lang="en-US" sz="1800" spc="-1" strike="noStrike">
              <a:solidFill>
                <a:srgbClr val="000000"/>
              </a:solidFill>
              <a:latin typeface="Gill Sans MT"/>
            </a:endParaRPr>
          </a:p>
        </p:txBody>
      </p:sp>
      <p:sp>
        <p:nvSpPr>
          <p:cNvPr id="352" name="Rectangle 8"/>
          <p:cNvSpPr/>
          <p:nvPr/>
        </p:nvSpPr>
        <p:spPr>
          <a:xfrm>
            <a:off x="990720" y="388620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o address the above key questions , MIKE BASIN model is used.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he following key indicators are used:</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hydropower generation </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lake water level</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mount of irrigation water abstracted and deficiency </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Beles flow</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5410080" y="1981080"/>
            <a:ext cx="3733920" cy="2705400"/>
          </a:xfrm>
          <a:prstGeom prst="rect">
            <a:avLst/>
          </a:prstGeom>
          <a:ln w="0">
            <a:noFill/>
          </a:ln>
        </p:spPr>
      </p:pic>
      <p:sp>
        <p:nvSpPr>
          <p:cNvPr id="354" name="Rectangle 3"/>
          <p:cNvSpPr/>
          <p:nvPr/>
        </p:nvSpPr>
        <p:spPr>
          <a:xfrm>
            <a:off x="1066680" y="1600200"/>
            <a:ext cx="4496040" cy="640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MIKE BASIN is a simulation model for water allocation representing the hydrology of the basin in space and time.</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t is a network model in which the rivers and their main tributaries are represented by a network of branches and nodes</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GIS based software build as an ARCGIS extension</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Main areas of Applications:</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ater allocation and scenario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servoir/Hydropower operatio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ydrological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rrigation demand and Yield assessment</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stream nutrient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tchment nutrient load assessment</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S data management and analysis</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Rectangle 2"/>
          <p:cNvSpPr/>
          <p:nvPr/>
        </p:nvSpPr>
        <p:spPr>
          <a:xfrm>
            <a:off x="609480" y="152280"/>
            <a:ext cx="81536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ke Basin</a:t>
            </a:r>
            <a:endParaRPr b="0" lang="en-US" sz="2800" spc="-1" strike="noStrike">
              <a:solidFill>
                <a:srgbClr val="000000"/>
              </a:solidFill>
              <a:latin typeface="Gill Sans MT"/>
            </a:endParaRPr>
          </a:p>
        </p:txBody>
      </p:sp>
      <p:sp>
        <p:nvSpPr>
          <p:cNvPr id="356" name="TextBox 5"/>
          <p:cNvSpPr/>
          <p:nvPr/>
        </p:nvSpPr>
        <p:spPr>
          <a:xfrm>
            <a:off x="1143000" y="91440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 multi purpose modeling and data management system for Integrating and River basin managemen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815328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Times New Roman"/>
              </a:rPr>
              <a:t>Data Availability</a:t>
            </a:r>
            <a:endParaRPr b="0" lang="en-US" sz="3200" spc="-1" strike="noStrike">
              <a:solidFill>
                <a:srgbClr val="572314"/>
              </a:solidFill>
              <a:latin typeface="Gill Sans MT"/>
            </a:endParaRPr>
          </a:p>
        </p:txBody>
      </p:sp>
      <p:sp>
        <p:nvSpPr>
          <p:cNvPr id="358" name="PlaceHolder 2"/>
          <p:cNvSpPr>
            <a:spLocks noGrp="1"/>
          </p:cNvSpPr>
          <p:nvPr>
            <p:ph/>
          </p:nvPr>
        </p:nvSpPr>
        <p:spPr>
          <a:xfrm>
            <a:off x="1028880" y="799920"/>
            <a:ext cx="8115120" cy="5524200"/>
          </a:xfrm>
          <a:prstGeom prst="rect">
            <a:avLst/>
          </a:prstGeom>
          <a:noFill/>
          <a:ln w="0">
            <a:noFill/>
          </a:ln>
        </p:spPr>
        <p:txBody>
          <a:bodyPr lIns="90000" rIns="90000" tIns="46800" bIns="46800" anchor="t">
            <a:normAutofit/>
          </a:bodyPr>
          <a:p>
            <a:pPr lvl="1" marL="97164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lnSpc>
                <a:spcPct val="100000"/>
              </a:lnSpc>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logical Study of the Tana-Beles Sub-Basins, </a:t>
            </a:r>
            <a:r>
              <a:rPr b="0" lang="en-US" sz="2000" spc="-1" strike="noStrike">
                <a:solidFill>
                  <a:srgbClr val="000000"/>
                </a:solidFill>
                <a:latin typeface="Gill Sans MT"/>
              </a:rPr>
              <a:t>SMEC 2008</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unoff depths at sub-catchments level, 1960-2005, at monthly time step</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ainfall (monthly) and evaporation (mean monthly) over the lake</a:t>
            </a:r>
            <a:endParaRPr b="0" lang="en-US" sz="2000" spc="-1" strike="noStrike">
              <a:solidFill>
                <a:srgbClr val="000000"/>
              </a:solidFill>
              <a:latin typeface="Gill Sans MT"/>
            </a:endParaRPr>
          </a:p>
          <a:p>
            <a:pPr lvl="1"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bbay Master plan Report; Identifying potential projects.</a:t>
            </a:r>
            <a:endParaRPr b="0" lang="en-US" sz="2000" spc="-1" strike="noStrike">
              <a:solidFill>
                <a:srgbClr val="000000"/>
              </a:solidFill>
              <a:latin typeface="Gill Sans MT"/>
            </a:endParaRPr>
          </a:p>
          <a:p>
            <a:pPr lvl="1"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asibility, pre-feasibility and reconnaissance studies of the dams and Irrigation development projec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Scenario Definition</a:t>
            </a:r>
            <a:endParaRPr b="0" lang="en-US" sz="2800" spc="-1" strike="noStrike">
              <a:solidFill>
                <a:srgbClr val="572314"/>
              </a:solidFill>
              <a:latin typeface="Gill Sans MT"/>
            </a:endParaRPr>
          </a:p>
        </p:txBody>
      </p:sp>
      <p:graphicFrame>
        <p:nvGraphicFramePr>
          <p:cNvPr id="360" name=""/>
          <p:cNvGraphicFramePr/>
          <p:nvPr/>
        </p:nvGraphicFramePr>
        <p:xfrm>
          <a:off x="1066680" y="762120"/>
          <a:ext cx="7239240" cy="5751360"/>
        </p:xfrm>
        <a:graphic>
          <a:graphicData uri="http://schemas.openxmlformats.org/drawingml/2006/table">
            <a:tbl>
              <a:tblPr/>
              <a:tblGrid>
                <a:gridCol w="2819520"/>
                <a:gridCol w="1066680"/>
                <a:gridCol w="1219320"/>
                <a:gridCol w="1143000"/>
                <a:gridCol w="990720"/>
              </a:tblGrid>
              <a:tr h="313560">
                <a:tc rowSpan="2">
                  <a:txBody>
                    <a:bodyPr lIns="55800" rIns="55800" tIns="28080" bIns="28080" anchor="ctr">
                      <a:noAutofit/>
                    </a:bodyPr>
                    <a:p>
                      <a:pPr marL="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Development Interventions</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0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1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2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3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6505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Baseline (Existing)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ed</a:t>
                      </a:r>
                      <a:r>
                        <a:rPr b="1" lang="it-IT" sz="1300" spc="-1" strike="noStrike">
                          <a:solidFill>
                            <a:srgbClr val="000000"/>
                          </a:solidFill>
                          <a:latin typeface="Calibri"/>
                          <a:ea typeface="Calibri"/>
                        </a:rPr>
                        <a:t>ium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Large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Full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Chara-Chara weir</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Beles Hydropower (460MW)</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Koga Dam &amp; Irrigation (7,000ha)</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Megetch Dam &amp; Irrigation (7,311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ibb Dam and irrigation (18,7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Upper Beles Irrigation(54,0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Gonder Town Water supply</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Gilgel Abbay dam &amp; Irrigation (14,552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Jema dam and Irrigation (7,786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Gumara dam &amp; irrigation (14,0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Dangur Hydropower (168MW)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Lower  Beles Irrigation(85,000ha)</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Lake Tana pumping Irrigation (44,65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Total</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Irrigation, 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7,00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7,011</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8,349</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53,000</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Hydropower, mw</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6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6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28</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28</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Gonder Town water supply, mcm/year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05:24:55Z</dcterms:created>
  <dc:creator>deksyos</dc:creator>
  <dc:description/>
  <dc:language>en-US</dc:language>
  <cp:lastModifiedBy>LeBorgne, Ewen (ILRI)</cp:lastModifiedBy>
  <dcterms:modified xsi:type="dcterms:W3CDTF">2012-11-13T06:24:52Z</dcterms:modified>
  <cp:revision>34</cp:revision>
  <dc:subject/>
  <dc:title>Impact of Irrigation Development In Tana-Beles Basins on Hydropower production and Lake Navigation</dc:title>
</cp:coreProperties>
</file>